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8.wmf" ContentType="image/x-wmf"/>
  <Override PartName="/ppt/media/image16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FCF9D42-43A4-4386-B006-6E6E91FEB0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Page Hand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 Selection 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UATION REQUIREMENTS…Compulsory Credits…Grade 10/Grade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D2BAA9B-EFE3-4F1A-9705-5244E0DAF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A40D60B-B963-4C93-9954-2FE193EED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BEE7F3A-BF6F-4BD5-AA0B-B8D39F180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D1D5539-F686-458E-8106-6BBDEB4E8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asizing… YOU need to research the options…the pre-requisites.  USE THE PH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Dates to remember…LISTED on the LDH Website.  (Including the October 3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rents’ N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asizing… YOU need to research the options…the pre-requisites.  USE THE PH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Dates to remember…LISTED on the LDH Website.  (Including the October 3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rents’ N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ity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 Numbers will be distributed mid-Nov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rounds of ad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-60% of CONDITIONAL offers are made AFTER mid-term of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m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ge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are open early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ust be submitted around the end of January for Equal Consid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ity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 Numbers will be distributed mid-Nov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rounds of ad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-60% of CONDITIONAL offers are made AFTER mid-term of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m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ge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are open early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ust be submitted around the end of January for Equal Consid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930E10A-642F-4C1E-8A77-230D0C9C67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ut Credit Counseling Summ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950F-E92D-4465-A462-0C8067A6D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C2AC-BD6D-4E85-897A-968847D6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A0C0-6BDE-45B1-BD88-9C85E44F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7559-897F-47FF-B0C8-991305E8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C3A1-F01A-45AB-8EC9-A00BCD19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4442-A282-4FAF-BC4A-027545A5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E3BF-6AC0-4127-85B2-6037B9BC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62A9-5614-48F0-8B6F-D7C97BC6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D713-B899-497E-827D-4C1D9104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44B5-0F4F-4016-8DD1-4476343E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4719-382B-4C35-9E4A-39081513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BBE1-2BD3-493D-A936-42EE9196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2ABE-D463-4AC7-AD2E-0D12A7A3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1D36-64F4-4F18-BCC1-44FF0E45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A352-4816-4F9B-B0BB-099C9C4F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C85F-F51A-4613-B48D-38EBE390D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EE5D-ABFF-484B-90B5-5FD35C8BD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22FC4-3145-4B21-B396-553F033B7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E9943-D137-402E-90F7-E5EF074E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1E8F3-5F78-4F40-9F50-34948650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7B012-5932-4526-8524-4373E176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410F3-3FA6-44F1-8E5C-7427449D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1634-6BA9-4138-BDDA-863EE68D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CA33B-CC8A-491F-9ECD-A26D2119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AFE4B-B078-4AF4-81E6-4DC21108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FD2B5-2F30-4545-84DA-38F71625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E3859-1949-49C9-AADB-31F0DA41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C31D1-5779-457E-BFCC-838989BB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AE6C0-EDBD-4185-A338-0ADEB27C4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6592A-62DF-470F-A0C1-C9D81B75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6C42-2288-4C61-A602-482D864A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828A-3FF1-4594-9D4F-615B01E4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0AAD-6625-4C93-80B8-1BF5943C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B31A-35F8-45DF-AB5E-B75F9AF4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13AE-C061-445B-9646-E394D515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D747-1592-4DEE-A044-0081A653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b4fc5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b4fc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4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4fc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b4fc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b4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4fc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b4fc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b4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4fc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b4fc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b4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4fc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b4fc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b4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4fc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b4fc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4fc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b4fc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4fc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b4fc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C9F0-EA73-43DC-9B2A-B6DCF88D8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DE7E-725F-4473-B2A4-E15D9F66E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C4AC-C6E8-4755-97C9-97A57E740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cblogo"/>
          <p:cNvPicPr/>
          <p:nvPr/>
        </p:nvPicPr>
        <p:blipFill>
          <a:blip r:embed="rId1"/>
          <a:stretch/>
        </p:blipFill>
        <p:spPr>
          <a:xfrm>
            <a:off x="2459160" y="3352680"/>
            <a:ext cx="4429080" cy="23814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576440" y="663480"/>
            <a:ext cx="6161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Broadway"/>
              </a:rPr>
              <a:t>Welcome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roadway"/>
              </a:rPr>
              <a:t>2018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roadway"/>
              </a:rPr>
              <a:t>Grad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9640" y="1393920"/>
            <a:ext cx="7878960" cy="41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footer9"/>
          <p:cNvPicPr/>
          <p:nvPr/>
        </p:nvPicPr>
        <p:blipFill>
          <a:blip r:embed="rId1"/>
          <a:stretch/>
        </p:blipFill>
        <p:spPr>
          <a:xfrm>
            <a:off x="501480" y="6002280"/>
            <a:ext cx="8199720" cy="6112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1105200" y="2192400"/>
            <a:ext cx="651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B - Where are you now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you tell your grade 12 self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54920" cy="37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AP YEAR? 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programs are avail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your guidance counsellor for tips on resumes, cover letters, interview skills, and letters of refer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PRENTICE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-op and apprenticeship programs are a great way to gain experience and make contacts if you are planning to go to work directly after high scho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footer9"/>
          <p:cNvPicPr/>
          <p:nvPr/>
        </p:nvPicPr>
        <p:blipFill>
          <a:blip r:embed="rId1"/>
          <a:stretch/>
        </p:blipFill>
        <p:spPr>
          <a:xfrm>
            <a:off x="539640" y="5772240"/>
            <a:ext cx="8172720" cy="610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9640" y="1393920"/>
            <a:ext cx="7878960" cy="41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LLEGE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choosing a college, consid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and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 within the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out of the cam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from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ences and alternative living arrang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footer9"/>
          <p:cNvPicPr/>
          <p:nvPr/>
        </p:nvPicPr>
        <p:blipFill>
          <a:blip r:embed="rId1"/>
          <a:stretch/>
        </p:blipFill>
        <p:spPr>
          <a:xfrm>
            <a:off x="501480" y="6002280"/>
            <a:ext cx="8199720" cy="611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9640" y="1393920"/>
            <a:ext cx="7878960" cy="41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LLE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oll in a diploma, degre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ve pro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footer9"/>
          <p:cNvPicPr/>
          <p:nvPr/>
        </p:nvPicPr>
        <p:blipFill>
          <a:blip r:embed="rId1"/>
          <a:stretch/>
        </p:blipFill>
        <p:spPr>
          <a:xfrm>
            <a:off x="501480" y="6002280"/>
            <a:ext cx="8199720" cy="611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college campus"/>
          <p:cNvPicPr/>
          <p:nvPr/>
        </p:nvPicPr>
        <p:blipFill>
          <a:blip r:embed="rId2"/>
          <a:stretch/>
        </p:blipFill>
        <p:spPr>
          <a:xfrm>
            <a:off x="5186520" y="2392200"/>
            <a:ext cx="3149280" cy="1770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Gillet building"/>
          <p:cNvPicPr/>
          <p:nvPr/>
        </p:nvPicPr>
        <p:blipFill>
          <a:blip r:embed="rId3"/>
          <a:stretch/>
        </p:blipFill>
        <p:spPr>
          <a:xfrm>
            <a:off x="501480" y="2968560"/>
            <a:ext cx="4070520" cy="23335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Algonquin"/>
          <p:cNvPicPr/>
          <p:nvPr/>
        </p:nvPicPr>
        <p:blipFill>
          <a:blip r:embed="rId4"/>
          <a:stretch/>
        </p:blipFill>
        <p:spPr>
          <a:xfrm>
            <a:off x="5186520" y="4235400"/>
            <a:ext cx="3149280" cy="1720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640" y="1393920"/>
            <a:ext cx="7878960" cy="41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LLE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requisit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SD, ENG4C, and others depending on the specific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folios, Program tests (Math, Language, HOAE), and/or interviews are required for certain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helor degree programs and collaborative programs have university requirements (ex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chelor of Interior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applied degree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.Sc. Nur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collaborative progr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iculation agreements with universities – opportunity to continue from college into degre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footer9"/>
          <p:cNvPicPr/>
          <p:nvPr/>
        </p:nvPicPr>
        <p:blipFill>
          <a:blip r:embed="rId1"/>
          <a:stretch/>
        </p:blipFill>
        <p:spPr>
          <a:xfrm>
            <a:off x="501480" y="6002280"/>
            <a:ext cx="8199720" cy="611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1520" y="1585800"/>
            <a:ext cx="6837480" cy="36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ST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ance Counsel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B Guidanc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ge School Vis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tter @ColBy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 Remind App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B Grade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footer9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7"/>
          <p:cNvSpPr/>
          <p:nvPr/>
        </p:nvSpPr>
        <p:spPr>
          <a:xfrm>
            <a:off x="1760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2" descr="Remind"/>
          <p:cNvPicPr/>
          <p:nvPr/>
        </p:nvPicPr>
        <p:blipFill>
          <a:blip r:embed="rId2"/>
          <a:stretch/>
        </p:blipFill>
        <p:spPr>
          <a:xfrm>
            <a:off x="5916600" y="3773520"/>
            <a:ext cx="2722680" cy="515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3" descr="twitter"/>
          <p:cNvPicPr/>
          <p:nvPr/>
        </p:nvPicPr>
        <p:blipFill>
          <a:blip r:embed="rId3"/>
          <a:stretch/>
        </p:blipFill>
        <p:spPr>
          <a:xfrm>
            <a:off x="4648320" y="3429000"/>
            <a:ext cx="479160" cy="479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9280" y="2199960"/>
            <a:ext cx="4762440" cy="13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footer9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4343400" y="38894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7" descr="Ontario Colleges"/>
          <p:cNvPicPr/>
          <p:nvPr/>
        </p:nvPicPr>
        <p:blipFill>
          <a:blip r:embed="rId2"/>
          <a:stretch/>
        </p:blipFill>
        <p:spPr>
          <a:xfrm>
            <a:off x="2036880" y="2122560"/>
            <a:ext cx="4570200" cy="17064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8"/>
          <p:cNvSpPr/>
          <p:nvPr/>
        </p:nvSpPr>
        <p:spPr>
          <a:xfrm>
            <a:off x="512640" y="4389480"/>
            <a:ext cx="7658280" cy="14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the colleg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 T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ssion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564120" y="1262160"/>
            <a:ext cx="2300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EST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"/>
          <p:cNvSpPr/>
          <p:nvPr/>
        </p:nvSpPr>
        <p:spPr>
          <a:xfrm>
            <a:off x="2962440" y="3828960"/>
            <a:ext cx="27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ontariocolleges.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098800" y="23162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1268640" y="2584440"/>
            <a:ext cx="651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B - Where are you now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you tell your grade 12 self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18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through www.ontariocolleges.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opens in early Octo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95 application fee for 5 program ch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1, 2018 deadline for equal consi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1, 2018 colleges may begin sending offers of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1, 2018 deadline to resp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457200" y="1600200"/>
            <a:ext cx="7878600" cy="27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7" descr="footer9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47640"/>
            <a:ext cx="8229600" cy="37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fers of admission a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ditional offers of ad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dmission offers carefully and understand conditions pla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footer9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6"/>
          <p:cNvSpPr/>
          <p:nvPr/>
        </p:nvSpPr>
        <p:spPr>
          <a:xfrm>
            <a:off x="1760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8"/>
          <p:cNvSpPr/>
          <p:nvPr/>
        </p:nvSpPr>
        <p:spPr>
          <a:xfrm>
            <a:off x="1760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1760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ill Badge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surname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-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ll.badgery@ocdsb.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rah Store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surname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-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rah.storey@ocdsb.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chel Nakashoj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surname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-Z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hel.nakashoji@ocdsb.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footer9"/>
          <p:cNvPicPr/>
          <p:nvPr/>
        </p:nvPicPr>
        <p:blipFill>
          <a:blip r:embed="rId1"/>
          <a:stretch/>
        </p:blipFill>
        <p:spPr>
          <a:xfrm>
            <a:off x="309600" y="6002280"/>
            <a:ext cx="8410680" cy="56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539640" y="241200"/>
          <a:ext cx="7954920" cy="844560"/>
        </p:xfrm>
        <a:graphic>
          <a:graphicData uri="http://schemas.openxmlformats.org/drawingml/2006/table">
            <a:tbl>
              <a:tblPr/>
              <a:tblGrid>
                <a:gridCol w="795492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Student Services Tea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db3d5"/>
                    </a:solidFill>
                  </a:tcPr>
                </a:tc>
              </a:tr>
            </a:tbl>
          </a:graphicData>
        </a:graphic>
      </p:graphicFrame>
    </p:spTree>
  </p:cSld>
  <p:transition spd="slow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47640"/>
            <a:ext cx="8229600" cy="37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BLE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ak with your guidance counsel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e with the college admissions office/regist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footer9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69880"/>
            <a:ext cx="822960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CHOLAR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lle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ntrance admission scholarships, but many internal/external scholarship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footer9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188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HOLARSHIPS &amp; BURS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1880" y="1355760"/>
            <a:ext cx="822960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ES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el By Student Services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scholarshipscanada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Yconic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ge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ance Counsel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461880" y="1585800"/>
            <a:ext cx="7878960" cy="27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7" descr="footer9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77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ST-SECONDARY EXP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ition fees range $5,000-$16,000/year, plus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ence fees $4,800-$15,000 (+/- meal pla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to openly discuss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AP (estimator tool; loans and grant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osap.gov.on.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footer9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SAP Update for 2017/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1880" y="1547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SAP for 2017-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AP includes: grants, bursaries and scholarship and lo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AP is a needs-based program.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AS will link with OSAP for the firs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should receive confirmation of their OSAP funding at the same time as they receive conditional offers of admission from colleges and univers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OSAP PRESENTA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rsday, OCTOBER 2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@ LUNCH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footer9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SAP Update for 2017/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1880" y="15854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students are applying through OCAS they will be presented with a green OSAP banner asking them to set-up their OSAP account to find out how much funding they will be eligible to receive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y link their OCAS with OSAP, when the 18/19 OSAP application launches (planned for early November), OSAP will pre-populate applications based on student’s info and program sel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footer9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ecial Education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1880" y="15854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services for students with learning exceptionalities will differ from high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EP will not be acceptable documentation; current documentation (ex. psycho-educational assessment completed within last 4 years) will b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your prospective schools’ student support services, and book appointments to begin the process once an offer is accep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footer9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udent Success Support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Post-Second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1880" y="15854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year students struggle with meeting deadlines, academic performance, motivation, and stu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wait until there is a problem to seek support from the college– access “Student Success” services– there are many supports/programs in place to help you adapt and be success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footer9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helping climb"/>
          <p:cNvPicPr/>
          <p:nvPr/>
        </p:nvPicPr>
        <p:blipFill>
          <a:blip r:embed="rId2"/>
          <a:stretch/>
        </p:blipFill>
        <p:spPr>
          <a:xfrm>
            <a:off x="5800680" y="4081320"/>
            <a:ext cx="2158920" cy="1436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5560" y="1431720"/>
            <a:ext cx="7878600" cy="29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can be a stressful process. 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tay cal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ents, please be supportive, informed, and realist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udents, please be informed, realistic, and communic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ith your par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footer9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5"/>
          <p:cNvSpPr/>
          <p:nvPr/>
        </p:nvSpPr>
        <p:spPr>
          <a:xfrm>
            <a:off x="360" y="-10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441756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ill Badge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surnames A-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ll.badgery@ocdsb.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rah Store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surnames H-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rah.storey@ocdsb.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chel Nakashoj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urnames P-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hel.nakashoji@ocdsb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footer9"/>
          <p:cNvPicPr/>
          <p:nvPr/>
        </p:nvPicPr>
        <p:blipFill>
          <a:blip r:embed="rId1"/>
          <a:stretch/>
        </p:blipFill>
        <p:spPr>
          <a:xfrm>
            <a:off x="309600" y="6002280"/>
            <a:ext cx="8410680" cy="56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7" name=""/>
          <p:cNvGraphicFramePr/>
          <p:nvPr/>
        </p:nvGraphicFramePr>
        <p:xfrm>
          <a:off x="539640" y="241200"/>
          <a:ext cx="7954920" cy="844560"/>
        </p:xfrm>
        <a:graphic>
          <a:graphicData uri="http://schemas.openxmlformats.org/drawingml/2006/table">
            <a:tbl>
              <a:tblPr/>
              <a:tblGrid>
                <a:gridCol w="795492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Student Services Tea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db3d5"/>
                    </a:solidFill>
                  </a:tcPr>
                </a:tc>
              </a:tr>
            </a:tbl>
          </a:graphicData>
        </a:graphic>
      </p:graphicFrame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0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tudent Services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23720" y="1547640"/>
            <a:ext cx="7878960" cy="29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RE ARE YOU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RE ARE YOU GO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W DO YOU GET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footer9"/>
          <p:cNvPicPr/>
          <p:nvPr/>
        </p:nvPicPr>
        <p:blipFill>
          <a:blip r:embed="rId1"/>
          <a:stretch/>
        </p:blipFill>
        <p:spPr>
          <a:xfrm>
            <a:off x="347760" y="5925960"/>
            <a:ext cx="8486640" cy="69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539640" y="241200"/>
          <a:ext cx="7954920" cy="844560"/>
        </p:xfrm>
        <a:graphic>
          <a:graphicData uri="http://schemas.openxmlformats.org/drawingml/2006/table">
            <a:tbl>
              <a:tblPr/>
              <a:tblGrid>
                <a:gridCol w="795492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ost Secondary Presenta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db3d5"/>
                    </a:solidFill>
                  </a:tcPr>
                </a:tc>
              </a:tr>
            </a:tbl>
          </a:graphicData>
        </a:graphic>
      </p:graphicFrame>
      <p:sp>
        <p:nvSpPr>
          <p:cNvPr id="140" name="Text Box 16"/>
          <p:cNvSpPr/>
          <p:nvPr/>
        </p:nvSpPr>
        <p:spPr>
          <a:xfrm>
            <a:off x="5608800" y="4273560"/>
            <a:ext cx="215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9" descr="future arrow"/>
          <p:cNvPicPr/>
          <p:nvPr/>
        </p:nvPicPr>
        <p:blipFill>
          <a:blip r:embed="rId2"/>
          <a:stretch/>
        </p:blipFill>
        <p:spPr>
          <a:xfrm>
            <a:off x="6300720" y="1816200"/>
            <a:ext cx="2371680" cy="365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sign up for REM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0" descr=""/>
          <p:cNvPicPr/>
          <p:nvPr/>
        </p:nvPicPr>
        <p:blipFill>
          <a:blip r:embed="rId1"/>
          <a:stretch/>
        </p:blipFill>
        <p:spPr>
          <a:xfrm>
            <a:off x="1806480" y="933480"/>
            <a:ext cx="5500800" cy="5765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8493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47760" y="1355400"/>
            <a:ext cx="8486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GRADUATION REQUIREMENTS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ave you </a:t>
            </a: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submitted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community involvement hour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(Due: May 31</a:t>
            </a:r>
            <a:r>
              <a:rPr b="0" lang="en-CA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, 201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ave you passed the Literacy Test (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OSSLT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) or the Literacy Cour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re you on track to earn your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credits?  (18 compulsory + 12 electiv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Review Credit Counselling Summary to verify this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footer9"/>
          <p:cNvPicPr/>
          <p:nvPr/>
        </p:nvPicPr>
        <p:blipFill>
          <a:blip r:embed="rId1"/>
          <a:stretch/>
        </p:blipFill>
        <p:spPr>
          <a:xfrm>
            <a:off x="328680" y="5964120"/>
            <a:ext cx="8199360" cy="611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grad hat"/>
          <p:cNvPicPr/>
          <p:nvPr/>
        </p:nvPicPr>
        <p:blipFill>
          <a:blip r:embed="rId2"/>
          <a:stretch/>
        </p:blipFill>
        <p:spPr>
          <a:xfrm>
            <a:off x="6453360" y="1278000"/>
            <a:ext cx="2052360" cy="1579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unity Involve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teracy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3"/>
          <p:cNvGraphicFramePr/>
          <p:nvPr/>
        </p:nvGraphicFramePr>
        <p:xfrm>
          <a:off x="457200" y="2911320"/>
          <a:ext cx="8229600" cy="19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911320"/>
                    <a:ext cx="8229600" cy="19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t / Completed Cour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3"/>
          <p:cNvGraphicFramePr/>
          <p:nvPr/>
        </p:nvGraphicFramePr>
        <p:xfrm>
          <a:off x="457200" y="2155680"/>
          <a:ext cx="8229600" cy="34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55680"/>
                    <a:ext cx="8229600" cy="34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Cour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3"/>
          <p:cNvGraphicFramePr/>
          <p:nvPr/>
        </p:nvGraphicFramePr>
        <p:xfrm>
          <a:off x="914400" y="1828800"/>
          <a:ext cx="6934320" cy="21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693432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914400" y="4340160"/>
            <a:ext cx="6934320" cy="1065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uation Cri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3"/>
          <p:cNvGraphicFramePr/>
          <p:nvPr/>
        </p:nvGraphicFramePr>
        <p:xfrm>
          <a:off x="457200" y="2817720"/>
          <a:ext cx="8229600" cy="16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7720"/>
                    <a:ext cx="822960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1480" y="1623960"/>
            <a:ext cx="7878960" cy="27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place? Apprenticeship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ge? Universi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/travel? Part-time studies/wor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p year to upgra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your strengths and interests when making a dec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some research to decide on op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footer9"/>
          <p:cNvPicPr/>
          <p:nvPr/>
        </p:nvPicPr>
        <p:blipFill>
          <a:blip r:embed="rId1"/>
          <a:stretch/>
        </p:blipFill>
        <p:spPr>
          <a:xfrm>
            <a:off x="501480" y="5964120"/>
            <a:ext cx="8199720" cy="611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road sign"/>
          <p:cNvPicPr/>
          <p:nvPr/>
        </p:nvPicPr>
        <p:blipFill>
          <a:blip r:embed="rId2"/>
          <a:stretch/>
        </p:blipFill>
        <p:spPr>
          <a:xfrm>
            <a:off x="6684840" y="1623960"/>
            <a:ext cx="1758960" cy="1758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7T23:04:50Z</dcterms:created>
  <dc:creator>HP Authorized Customer</dc:creator>
  <dc:description/>
  <dc:language>en-US</dc:language>
  <cp:lastModifiedBy>Jill Badgery</cp:lastModifiedBy>
  <dcterms:modified xsi:type="dcterms:W3CDTF">2017-10-18T14:07:32Z</dcterms:modified>
  <cp:revision>197</cp:revision>
  <dc:subject/>
  <dc:title>Slide 1</dc:title>
</cp:coreProperties>
</file>